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975B-BDE3-4591-BB47-BB71E001C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66AD-34E9-4137-B762-106318A4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2995-9C59-432B-A77B-790C6998E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73B5-EF86-4B8F-B19F-3CE315A8F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DE9C-FCA1-463F-B308-6DF61C12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F7E6-3DC7-4031-8CE3-9B1ABA47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1CC9-4CD6-483D-A786-581A6C5E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6F9D-1B67-4641-8539-AD8CC03A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CDD3-AEFB-4BFA-A767-BB2F88D2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2246-C4CD-4A8A-B2D4-B1DB0A32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5849-5C0B-4A64-A1DF-A1909AA8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7572-CFC4-4424-9F87-E5CA28F3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4A83-DE47-4CC9-876A-FC4660229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688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86200" y="271440"/>
            <a:ext cx="5257800" cy="9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من كاس المحبِّي قربان الفِدا عَم يِدخُل لَقلبي عا طول المدى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رَح شيل الأشواك مِن نَفسي العطشاني تا حتَّى تِلقاك ربِّي بالقربا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حبوب القمحِ الصارِت قربانِة يسوع قلوب العالَم زارِت سَكنِت بالضُّلو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عنقود اللي جمَعتو من كَرم المحبِّي بِكِلمة حوَّلتو لَدَمَّك يا رَبِّ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5T04:31:23Z</dcterms:created>
  <dc:creator>HANI SAFI</dc:creator>
  <dc:description/>
  <dc:language>en-US</dc:language>
  <cp:lastModifiedBy>HANI SAFI</cp:lastModifiedBy>
  <dcterms:modified xsi:type="dcterms:W3CDTF">2003-04-25T04:32:37Z</dcterms:modified>
  <cp:revision>1</cp:revision>
  <dc:subject/>
  <dc:title>Slide 1</dc:title>
</cp:coreProperties>
</file>